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38C31-E9F1-4542-9071-EA7774CF5F0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.MORRIS 20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free powerpoints at www.worldofteaching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Powerpoint is hosted on www.worldofteaching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ease visit for 100’s more free powerpoi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.MORRIS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free powerpoints at 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owerpoint is hosted on 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ase visit for 100’s more free power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hr’s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in orb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’s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in orb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IUM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these particles consist of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UM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these particles consist of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ve ch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ve ch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ch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ve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ve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of protons in an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of protons 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ons in an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electrons = number of prot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protons in an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protons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s in an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electrons = number of pro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are arranged in Energy Levels or Shells around the nucleus of an at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shel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ximum of 2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ond shel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ximum of 8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rd shel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ximum of 8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are arranged in Energy Levels or Shells around the nucleus of an at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shel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aximum of 2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shel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aximum of 8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shel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aximum of 8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two ways to represent the atomic structure of an element or compound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ic Configu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t &amp; Cross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wo ways to represent the atomic structure of an element or compoun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ic Config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t &amp; Cross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IC CONFIGU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electronic configuration elements are represented numerically by the number of electrons in their shells and number of shells.  For exampl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in 1st shell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in 2nd sh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figuration = 2 ,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 +  5  = 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IC CONFIG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electronic configuration elements are represented numerically by the number of electrons in their shells and number of shells.  For exampl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in 1st shell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in 2nd s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guration = 2 ,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+  5  = 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IC CONFIGU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the electronic configuration for the following elements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,8,8,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,8,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,8,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,8,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,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,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IC CONFIG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electronic configuration for the following element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8,8,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8,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8,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8,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T &amp; CROSS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Dot &amp; Cross diagrams elements and compounds are represented by Dots or Crosses to show electrons, and circles to show the shells. For exampl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T &amp; CROSS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Dot &amp; Cross diagrams elements and compounds are represented by Dots or Crosses to show electrons, and circles to show the shells. For exampl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T &amp; CROSS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the Dot &amp; Cross diagrams for the following elements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T &amp; CROSS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the Dot &amp; Cross diagrams for the following element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60 B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mocritus develops the idea of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pounded up materials in his pestle and mortar until he had reduced them to smaller and smaller particles which he call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greek for indivisibl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60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critus develops the idea of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pounded up materials in his pestle and mortar until he had reduced them to smaller and smaller particles which he ca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greek for indivisib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tomic Number of an atom = number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ons in the nucle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tomic Mass of an atom = number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ons + Neutrons in the nucle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of Protons = Number of Elec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orbit the nucleus in sh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shell can only carry a set number of elec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omic Number of an atom = number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in the nucle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omic Mass of an atom = number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+ Neutrons in the nucle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Protons = Number of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orbit the nucleus in sh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shell can only carry a set number of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Dal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ggested that all matter was made up of tiny spheres that were able to bounce around with perfect elasticity and called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Dal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gested that all matter was made up of tiny spheres that were able to bounce around with perfect elasticity and called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9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seph John Thomp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 that atoms could sometimes eject a far smaller negative particle which he called 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seph John Thomp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 that atoms could sometimes eject a far smaller negative particle which he called 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mpson develops the idea that an atom was made up of electrons scattered unevenly within an elastic sphere surrounded by a soup of positive charge to balance the electron's ch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 plums surrounded by pudd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M PUD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pson develops the idea that an atom was made up of electrons scattered unevenly within an elastic sphere surrounded by a soup of positive charge to balance the electron's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plums surrounded by pud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M PUD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nest Rutherf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saw Geiger and Marsden carrying out his famous experimen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fired Helium nuclei at a piece of gold foil which was only a few atoms thic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found that although most of them passed through. About 1 in 10,000 h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nest Rutherf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saw Geiger and Marsden carrying out his famous experi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fired Helium nuclei at a piece of gold foil which was only a few atoms thi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found that although most of them passed through. About 1 in 10,000 h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ld f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ium nucle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found that while most of the helium nuclei passed through the foil, a small number were deflected and, to their surprise, some helium nuclei bounced straight bac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ium nucle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ld f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um nucl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found that while most of the helium nuclei passed through the foil, a small number were deflected and, to their surprise, some helium nuclei bounced straight 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um nucl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therford’s new evidence allowed him to propose a more detailed model with a central nucleu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suggested that the positive charge was all in a central nucleus.  With this holding the electrons in place by electrical att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ever, this was not the end of the stor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’s new evidence allowed him to propose a more detailed model with a central nucleu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suggested that the positive charge was all in a central nucleus.  With this holding the electrons in place by electrical att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this was not the end of the sto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els Boh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ied under Rutherford at the Victoria University in Manchest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hr refined Rutherford's idea by adding that the electrons were in orbits. Rather like planets orbiting the sun. With each orbit only able to contain a set number of elec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els Boh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ied under Rutherford at the Victoria University in Manches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refined Rutherford's idea by adding that the electrons were in orbits. Rather like planets orbiting the sun. With each orbit only able to contain a set number of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9DD0-941E-45CF-935B-DB58DBBF0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046D-4A0E-4E50-B935-94EE90381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EEFA-A93B-4D49-BA98-5EF0DA7B1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50CC-2A5B-427E-8EFE-E877E540A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A356-D122-4268-B03A-250794530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4E07-85AA-47D1-A681-AA143A40D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6B28-F4D3-4032-89F6-B72AC1D5C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C5AD-4019-4284-91EB-38EBA1009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4EE1-1F00-42AA-ACA5-43DE0E341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CBE5-2B36-4320-A76F-79D957EC8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B695-95F6-4EAA-8B2B-62EC88C5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5F02-1769-4F23-B30B-3756D49B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3047D-DAF8-4028-ABA2-BF6274F9C68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worldofteaching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atom-bomb"/>
          <p:cNvPicPr/>
          <p:nvPr/>
        </p:nvPicPr>
        <p:blipFill>
          <a:blip r:embed="rId1"/>
          <a:stretch/>
        </p:blipFill>
        <p:spPr>
          <a:xfrm>
            <a:off x="-181080" y="-208080"/>
            <a:ext cx="9506160" cy="7274160"/>
          </a:xfrm>
          <a:prstGeom prst="rect">
            <a:avLst/>
          </a:prstGeom>
          <a:ln w="0">
            <a:noFill/>
          </a:ln>
        </p:spPr>
      </p:pic>
      <p:sp>
        <p:nvSpPr>
          <p:cNvPr id="49" name="WordArt 5"/>
          <p:cNvSpPr txBox="1"/>
          <p:nvPr/>
        </p:nvSpPr>
        <p:spPr>
          <a:xfrm>
            <a:off x="1332000" y="1413000"/>
            <a:ext cx="6875280" cy="4319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8173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Comic Sans MS"/>
              </a:rPr>
              <a:t>ATOMIC STRUCTURE</a:t>
            </a:r>
            <a:endParaRPr b="1" lang="en-US" sz="2800" spc="1" strike="noStrike">
              <a:ln w="1260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Comic Sans MS"/>
              <a:ea typeface="Comic Sans MS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7524720" y="6583320"/>
            <a:ext cx="16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cc"/>
                </a:solidFill>
                <a:latin typeface="Arial"/>
              </a:rPr>
              <a:t>S.MORRIS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-11880" y="6541920"/>
            <a:ext cx="427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More free powerpoints at www.worldofteaching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5040" y="6324480"/>
            <a:ext cx="3661560" cy="459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This Powerpoint is hosted on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Please visit for 100’s more free power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4" descr="nucleus"/>
          <p:cNvPicPr/>
          <p:nvPr/>
        </p:nvPicPr>
        <p:blipFill>
          <a:blip r:embed="rId1"/>
          <a:stretch/>
        </p:blipFill>
        <p:spPr>
          <a:xfrm>
            <a:off x="4140360" y="3141720"/>
            <a:ext cx="1028520" cy="10285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23"/>
          <p:cNvSpPr/>
          <p:nvPr/>
        </p:nvSpPr>
        <p:spPr>
          <a:xfrm>
            <a:off x="684360" y="40464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Bohr’s 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32"/>
          <p:cNvSpPr/>
          <p:nvPr/>
        </p:nvSpPr>
        <p:spPr>
          <a:xfrm>
            <a:off x="4427640" y="1052640"/>
            <a:ext cx="142920" cy="144360"/>
          </a:xfrm>
          <a:prstGeom prst="ellipse">
            <a:avLst/>
          </a:prstGeom>
          <a:solidFill>
            <a:srgbClr val="99cc00">
              <a:alpha val="57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37"/>
          <p:cNvSpPr/>
          <p:nvPr/>
        </p:nvSpPr>
        <p:spPr>
          <a:xfrm>
            <a:off x="6948360" y="5516640"/>
            <a:ext cx="142920" cy="144360"/>
          </a:xfrm>
          <a:prstGeom prst="ellipse">
            <a:avLst/>
          </a:prstGeom>
          <a:solidFill>
            <a:srgbClr val="99cc00">
              <a:alpha val="57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41"/>
          <p:cNvSpPr/>
          <p:nvPr/>
        </p:nvSpPr>
        <p:spPr>
          <a:xfrm>
            <a:off x="2195640" y="4941720"/>
            <a:ext cx="142920" cy="144720"/>
          </a:xfrm>
          <a:prstGeom prst="ellipse">
            <a:avLst/>
          </a:prstGeom>
          <a:solidFill>
            <a:srgbClr val="99cc00">
              <a:alpha val="57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2"/>
          <p:cNvSpPr/>
          <p:nvPr/>
        </p:nvSpPr>
        <p:spPr>
          <a:xfrm>
            <a:off x="6227640" y="1125360"/>
            <a:ext cx="29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electrons in or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6"/>
          <p:cNvSpPr/>
          <p:nvPr/>
        </p:nvSpPr>
        <p:spPr>
          <a:xfrm>
            <a:off x="3492360" y="3860640"/>
            <a:ext cx="244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nucl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50"/>
          <p:cNvSpPr/>
          <p:nvPr/>
        </p:nvSpPr>
        <p:spPr>
          <a:xfrm>
            <a:off x="1692360" y="3429000"/>
            <a:ext cx="142920" cy="144360"/>
          </a:xfrm>
          <a:prstGeom prst="ellipse">
            <a:avLst/>
          </a:prstGeom>
          <a:solidFill>
            <a:srgbClr val="99cc00">
              <a:alpha val="57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229 -0.23214 C -0.08212 -0.23491 -0.08212 -0.23838 -0.0816 -0.24092 C -0.08091 -0.24601 -0.07865 -0.25572 -0.07865 -0.25572 C -0.07223 -0.26728 -0.07223 -0.26867 -0.06059 -0.28208 C -0.0382 -0.30797 -0.01927 -0.35375 0.01007 -0.3519 C 0.02291 -0.35884 0.00625 -0.35098 0.01875 -0.35352 C 0.02066 -0.35445 0.02222 -0.35583 0.02343 -0.35607 C 0.0276 -0.35792 0.03003 -0.35722 0.03385 -0.35722 C 0.04531 -0.36624 0.03784 -0.36231 0.05 -0.36439 C 0.05382 -0.36439 0.06128 -0.36601 0.06146 -0.36647 C 0.06336 -0.36763 0.0651 -0.36948 0.06736 -0.36994 C 0.06875 -0.37063 0.07048 -0.36901 0.07152 -0.36948 C 0.07864 -0.37202 0.08455 -0.37896 0.09149 -0.3815 C 0.09531 -0.38266 0.10607 -0.38104 0.11076 -0.38081 C 0.11736 -0.38427 0.12673 -0.38497 0.1342 -0.38266 C 0.13889 -0.38196 0.1401 -0.38011 0.14409 -0.38011 C 0.15972 -0.38196 0.15069 -0.38381 0.16093 -0.37988 C 0.16961 -0.38173 0.17569 -0.38844 0.1842 -0.39005 C 0.18941 -0.39052 0.19548 -0.3889 0.20104 -0.38959 C 0.21632 -0.39098 0.21267 -0.39167 0.22899 -0.38566 C 0.23559 -0.38312 0.24201 -0.38589 0.24913 -0.38358 C 0.25711 -0.38774 0.27586 -0.38474 0.2835 -0.37826 C 0.29132 -0.37757 0.29896 -0.37364 0.30711 -0.37503 C 0.31232 -0.37572 0.31788 -0.37618 0.32274 -0.37618 C 0.3276 -0.37664 0.33593 -0.36878 0.33611 -0.36901 C 0.3401 -0.36878 0.35173 -0.3674 0.35503 -0.36578 C 0.35798 -0.3637 0.36371 -0.35884 0.36371 -0.35907 C 0.37309 -0.35792 0.37812 -0.35907 0.38593 -0.35352 C 0.38732 -0.35352 0.40434 -0.35098 0.40486 -0.35029 C 0.40972 -0.34612 0.41336 -0.33965 0.41753 -0.3341 C 0.42812 -0.32485 0.44114 -0.31884 0.45312 -0.31375 C 0.46093 -0.31029 0.46736 -0.30936 0.4743 -0.30427 C 0.50225 -0.30219 0.52048 -0.24046 0.54253 -0.21225 C 0.54861 -0.2074 0.55434 -0.20208 0.56024 -0.19722 C 0.56198 -0.19583 0.56493 -0.19352 0.5651 -0.19352 C 0.58003 -0.16531 0.57309 -0.1778 0.57986 -0.15768 C 0.58073 -0.14635 0.58455 -0.13572 0.58437 -0.12393 C 0.58455 -0.11491 0.58264 -0.10335 0.58073 -0.09456 C 0.57014 -0.083 0.55955 -0.07121 0.54843 -0.06011 C 0.54288 -0.05456 0.53402 -0.05318 0.52743 -0.05017 C 0.52031 -0.04693 0.51146 -0.04231 0.50434 -0.03768 C 0.49548 -0.0319 0.48611 -0.02612 0.47639 -0.02219 C 0.47205 -0.02057 0.46284 -0.0178 0.46267 -0.0178 C 0.45642 -0.01318 0.45191 -0.01156 0.44514 -0.00878 C 0.4375 -0.00601 0.4434 -0.0067 0.43368 -0.00138 C 0.41979 0.00648 0.40347 0.00925 0.38871 0.01434 C 0.3835 0.01573 0.36597 0.00833 0.36232 0.0081 C 0.3533 0.00717 0.34548 0.00255 0.3368 0.00116 C 0.32552 -0.00092 0.3184 -0.00069 0.30798 -0.00485 C 0.29896 -0.003 0.2908 -0.00208 0.28211 -0.00555 C 0.26545 -0.00231 0.27205 -0.00069 0.2618 -0.00485 C 0.246 -0.00231 0.23021 -0.00462 0.21458 -0.00624 C 0.21354 -0.00624 0.20208 -0.00809 0.20121 -0.00786 C 0.1908 -0.00601 0.18021 -0.0067 0.16944 -0.00786 C 0.15711 -0.00901 0.14045 -0.00601 0.12951 -0.01479 C 0.12048 -0.01826 0.11215 -0.02335 0.1033 -0.02659 C 0.096 -0.02913 0.08889 -0.03075 0.08246 -0.03583 C 0.07656 -0.03653 0.06944 -0.03653 0.06423 -0.04092 C 0.06163 -0.04323 0.05573 -0.04716 0.05607 -0.04763 C 0.04531 -0.04832 0.03802 -0.05387 0.0283 -0.05757 C 0.01944 -0.06173 0.01267 -0.0615 0.00521 -0.06774 C 0.0026 -0.06751 3.33332999999988E-006 -0.06566 -0.00261 -0.06682 C -0.00539 -0.06751 -0.00695 -0.07121 -0.00903 -0.07352 C -0.01111 -0.07445 -0.01268 -0.07445 -0.01441 -0.0756 C -0.01615 -0.07676 -0.01736 -0.07792 -0.01875 -0.07861 C -0.0283 -0.07977 -0.01841 -0.07792 -0.03073 -0.08763 C -0.04775 -0.10127 -0.02361 -0.07537 -0.0415 -0.09479 C -0.04653 -0.09988 -0.05625 -0.11121 -0.05625 -0.11144 C -0.07674 -0.1267 -0.06285 -0.11491 -0.09584 -0.17225 C -0.09844 -0.17664 -0.09966 -0.18242 -0.10174 -0.18751 C -0.10295 -0.19144 -0.10539 -0.2 -0.10539 -0.2 C -0.10625 -0.20809 -0.10591 -0.21433 -0.10764 -0.22266 C -0.09983 -0.23977 -0.10903 -0.22104 -0.08368 -0.24994 C -0.08073 -0.25294 -0.07795 -0.25711 -0.07639 -0.26104 C -0.07535 -0.26312 -0.07587 -0.26751 -0.0757 -0.26774 E">
                                      <p:cBhvr>
                                        <p:cTn id="221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2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4427 0.00139 C -0.53229 0.01619 -0.54549 -0.00254 -0.53611 0.01804 C -0.53438 0.02197 -0.52882 0.02983 -0.52899 0.0296 C -0.51823 0.03746 -0.50608 0.04162 -0.49514 0.05018 C -0.4632 0.06174 -0.44202 0.07723 -0.41215 0.07029 C -0.40261 0.07145 -0.39288 0.07029 -0.38386 0.06428 C -0.37361 0.06544 -0.35764 0.06058 -0.34861 0.05434 C -0.33646 0.05388 -0.33177 0.05041 -0.32118 0.04347 C -0.31233 0.04324 -0.30399 0.03769 -0.29566 0.03399 C -0.29063 0.03168 -0.28577 0.02914 -0.2809 0.02682 C -0.27847 0.02567 -0.27344 0.02289 -0.27361 0.02312 C -0.25955 0.02266 -0.27952 0.02405 -0.25261 0.01179 C -0.24774 0.00948 -0.24236 0.00971 -0.23802 0.00625 C -0.23195 0.00231 -0.22188 -0.00855 -0.21806 -0.01618 C -0.20573 -0.02427 -0.19445 -0.0363 -0.18299 -0.04601 C -0.16875 -0.05734 -0.15261 -0.06705 -0.14236 -0.08485 C -0.12934 -0.0941 -0.1224 -0.10728 -0.1125 -0.12115 C -0.1066 -0.12532 -0.10208 -0.13341 -0.0967 -0.13919 C -0.0882 -0.14844 -0.07917 -0.15676 -0.07066 -0.16601 C -0.06684 -0.17017 -0.06667 -0.17179 -0.06215 -0.17364 C -0.06024 -0.17456 -0.05816 -0.17433 -0.05695 -0.17595 C -0.05434 -0.17873 -0.05104 -0.18682 -0.05122 -0.18682 C -0.04393 -0.19144 -0.04792 -0.18797 -0.04115 -0.20046 C -0.03542 -0.21133 -0.02882 -0.21942 -0.02413 -0.23121 C -0.01615 -0.23977 -0.0158 -0.24532 -0.01111 -0.25919 C -0.00365 -0.28115 0.00295 -0.30312 0.0092 -0.32601 C 0.02014 -0.37734 0.02778 -0.40185 0.02864 -0.44647 C 0.02864 -0.4578 0.02378 -0.47375 0.02083 -0.48462 C 0.01875 -0.49225 0.01441 -0.50705 0.01423 -0.50728 C 0.01198 -0.51098 0.01024 -0.51607 0.00712 -0.51907 C 0.00573 -0.52023 0.00399 -0.52162 0.00295 -0.523 C -0.01111 -0.54589 0.00955 -0.51815 -0.00365 -0.53664 C -0.01215 -0.54867 -0.02465 -0.55884 -0.03524 -0.56716 C -0.06927 -0.58011 -0.10261 -0.60162 -0.13837 -0.59375 C -0.14045 -0.59422 -0.14827 -0.5956 -0.15139 -0.59468 C -0.15521 -0.59352 -0.16268 -0.59029 -0.16285 -0.59029 C -0.17552 -0.58982 -0.18542 -0.58636 -0.19583 -0.57503 C -0.20365 -0.57202 -0.20938 -0.56485 -0.21597 -0.55907 C -0.22274 -0.55352 -0.23056 -0.54913 -0.23524 -0.54034 C -0.23837 -0.53826 -0.24254 -0.53711 -0.24514 -0.53318 C -0.24688 -0.5311 -0.24792 -0.52832 -0.25 -0.52647 C -0.26024 -0.5163 -0.25295 -0.52855 -0.25903 -0.51699 C -0.26615 -0.51399 -0.27274 -0.50982 -0.27969 -0.50543 C -0.28872 -0.50058 -0.29011 -0.50427 -0.29879 -0.49549 C -0.30538 -0.49271 -0.31024 -0.49295 -0.31563 -0.4867 C -0.32327 -0.48416 -0.33854 -0.47121 -0.34288 -0.46266 C -0.35226 -0.45572 -0.36268 -0.45063 -0.37205 -0.44347 C -0.37986 -0.44347 -0.38299 -0.44 -0.38906 -0.43491 C -0.39358 -0.43121 -0.39913 -0.42936 -0.40295 -0.4252 C -0.41511 -0.41364 -0.42431 -0.39699 -0.43403 -0.38266 C -0.43524 -0.38127 -0.43698 -0.38127 -0.43854 -0.38011 C -0.44149 -0.37641 -0.44323 -0.3711 -0.44618 -0.36763 C -0.45781 -0.35283 -0.45174 -0.36347 -0.45781 -0.35237 C -0.46111 -0.34913 -0.46511 -0.34705 -0.46858 -0.34358 C -0.47014 -0.3415 -0.47118 -0.33849 -0.47292 -0.33664 C -0.47465 -0.33479 -0.47708 -0.33456 -0.47882 -0.33225 C -0.47986 -0.3311 -0.48542 -0.32 -0.48559 -0.31953 C -0.49063 -0.30936 -0.49636 -0.30058 -0.50174 -0.29086 C -0.50573 -0.28647 -0.5125 -0.27953 -0.5158 -0.27445 C -0.51893 -0.26959 -0.52049 -0.26289 -0.52274 -0.25734 C -0.52726 -0.24855 -0.53472 -0.23838 -0.53802 -0.22821 C -0.54236 -0.21318 -0.54618 -0.19769 -0.55018 -0.18242 C -0.55643 -0.15098 -0.56545 -0.12023 -0.56823 -0.08809 C -0.56875 -0.07838 -0.56458 -0.06612 -0.56441 -0.05572 C -0.55781 -0.03977 -0.55972 -0.0467 -0.55712 -0.03514 C -0.55608 -0.03306 -0.55469 -0.03144 -0.55399 -0.02913 C -0.55156 -0.02497 -0.54809 -0.01572 -0.54827 -0.01572 C -0.54306 -0.01086 -0.54149 -0.01017 -0.53698 -2.83237E-006 C -0.53629 0.00162 -0.53472 0.00532 -0.5349 0.00486 E">
                                      <p:cBhvr>
                                        <p:cTn id="223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4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143 0.00948 C 0.09636 0.01665 0.1125 0.02081 0.12605 0.03191 C 0.1375 0.04162 0.14844 0.05457 0.16025 0.06358 C 0.16875 0.07584 0.16441 0.07168 0.17171 0.07792 C 0.17205 0.08555 0.17379 0.08809 0.17796 0.09387 C 0.18073 0.10405 0.18941 0.11607 0.19098 0.12439 C 0.19184 0.13133 0.19167 0.13688 0.1948 0.14289 C 0.19497 0.14959 0.19844 0.16185 0.19844 0.16208 C 0.19896 0.17295 0.19966 0.18405 0.20243 0.19445 C 0.20139 0.20717 0.20278 0.21988 0.20191 0.2326 C 0.19844 0.25087 0.19358 0.26381 0.19879 0.28116 C 0.19914 0.28902 0.19948 0.29665 0.19983 0.30474 C 0.19983 0.30659 0.2 0.30867 0.20018 0.31075 C 0.20018 0.31214 0.20035 0.31653 0.20035 0.31676 C 0.19688 0.3378 0.1948 0.35884 0.19358 0.38035 C 0.19115 0.39584 0.18976 0.40694 0.19202 0.42243 C 0.17275 0.49988 0.18507 0.55052 0.13542 0.57734 C 0.13212 0.58266 0.12848 0.58728 0.12396 0.59168 C 0.11702 0.60439 0.10695 0.61526 0.09879 0.62705 C 0.09323 0.63514 0.08907 0.64902 0.08073 0.6541 C 0.07448 0.66474 0.07813 0.6615 0.07153 0.66543 C 0.0665 0.67491 0.05955 0.68462 0.05209 0.69156 C 0.04757 0.69942 0.03855 0.70543 0.03039 0.70613 C 0.02691 0.70636 0.02362 0.70566 0.02049 0.70566 C 0.01875 0.70543 0.01546 0.70543 0.01546 0.70566 C 0.00747 0.70798 -0.00295 0.71399 -0.01145 0.71329 C -0.02013 0.71607 -0.025 0.71861 -0.03385 0.71746 C -0.04635 0.71191 -0.05902 0.70636 -0.07135 0.70012 C -0.07951 0.69595 -0.08593 0.68763 -0.09392 0.68277 C -0.0993 0.67977 -0.10468 0.67699 -0.11007 0.67399 C -0.11145 0.67214 -0.1125 0.67052 -0.11371 0.6689 C -0.11527 0.66751 -0.11701 0.66682 -0.11805 0.66497 C -0.12118 0.66104 -0.12309 0.65457 -0.12621 0.6504 C -0.1302 0.64485 -0.13524 0.64046 -0.13923 0.63491 C -0.14288 0.62173 -0.15156 0.60902 -0.16111 0.60116 C -0.16823 0.58936 -0.17621 0.57942 -0.18333 0.56855 C -0.18541 0.56555 -0.18732 0.56208 -0.18941 0.55815 C -0.19132 0.55468 -0.19479 0.54636 -0.19479 0.54659 C -0.19531 0.54012 -0.19739 0.53595 -0.19913 0.52948 C -0.19652 0.49248 -0.17673 0.45387 -0.18663 0.41942 C -0.18906 0.41087 -0.18767 0.40647 -0.19149 0.39838 C -0.19201 0.38913 -0.19236 0.38104 -0.19375 0.37225 C -0.19305 0.36162 -0.19444 0.35306 -0.1934 0.34196 C -0.17968 0.29225 -0.1684 0.24231 -0.15468 0.19306 C -0.15364 0.18936 -0.14913 0.18312 -0.14913 0.18381 C -0.14774 0.17919 -0.14583 0.17503 -0.14444 0.1704 C -0.14097 0.15861 -0.13819 0.14613 -0.1342 0.13457 C -0.13194 0.12786 -0.12795 0.12301 -0.12517 0.11699 C -0.12239 0.11075 -0.11961 0.10289 -0.11579 0.0978 C -0.11319 0.0948 -0.10746 0.09064 -0.1052 0.08855 C -0.08906 0.07306 -0.06996 0.06335 -0.05034 0.0541 C -0.04114 0.04971 -0.03698 0.04532 -0.02864 0.03838 C -0.02448 0.03491 -0.01041 0.02936 -0.0059 0.02682 C 0.0125 0.01618 0.04445 0.00439 0.0658 0.01225 C 0.08004 0.0178 0.0941 0.02428 0.10816 0.03006 E">
                                      <p:cBhvr>
                                        <p:cTn id="225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0643 -0.11607 C 0.60712 -0.1133 0.60868 -0.11052 0.6092 -0.10752 C 0.61025 -0.10289 0.61129 -0.09318 0.61129 -0.09249 C 0.60955 -0.07792 0.6099 -0.07723 0.60382 -0.05781 C 0.59254 -0.02197 0.59132 0.03005 0.56441 0.04624 C 0.55504 0.06057 0.56754 0.043 0.55677 0.05318 C 0.55556 0.05456 0.55486 0.05641 0.55347 0.05826 C 0.55052 0.06196 0.54827 0.06289 0.54479 0.06497 C 0.5375 0.08023 0.54306 0.07237 0.53281 0.08092 C 0.52934 0.08393 0.52327 0.08948 0.52309 0.08971 C 0.52188 0.09202 0.52101 0.09456 0.5191 0.09618 C 0.51806 0.0978 0.51632 0.09734 0.51511 0.09896 C 0.5099 0.1052 0.5066 0.11514 0.50139 0.12092 C 0.49809 0.12462 0.4882 0.12948 0.48386 0.13202 C 0.479 0.13942 0.47084 0.14497 0.46354 0.14797 C 0.4592 0.14982 0.45747 0.1489 0.45365 0.15167 C 0.44045 0.16231 0.44948 0.15884 0.43854 0.16185 C 0.43177 0.16786 0.42847 0.1778 0.42136 0.18404 C 0.41684 0.18774 0.41094 0.19005 0.4059 0.19352 C 0.39306 0.2037 0.39636 0.20231 0.37986 0.2067 C 0.37292 0.20832 0.36823 0.21479 0.36129 0.21618 C 0.35521 0.22566 0.33768 0.23399 0.32847 0.23306 C 0.32101 0.23699 0.3132 0.23815 0.30643 0.24323 C 0.30191 0.2474 0.29722 0.25133 0.29271 0.25433 C 0.28854 0.25734 0.27847 0.25595 0.2783 0.25595 C 0.27465 0.2578 0.26406 0.26335 0.26025 0.26404 C 0.25695 0.26451 0.25035 0.26266 0.25018 0.26289 C 0.24167 0.26774 0.23733 0.27237 0.22882 0.27121 C 0.22726 0.27214 0.21146 0.28 0.21077 0.27977 C 0.20504 0.27884 0.19948 0.27537 0.19393 0.27283 C 0.18125 0.27144 0.16754 0.27375 0.15486 0.27607 C 0.14688 0.27792 0.14115 0.28046 0.13316 0.28023 C 0.10729 0.29526 0.07031 0.25017 0.04115 0.23838 C 0.03438 0.23745 0.02726 0.23583 0.01997 0.2356 C 0.0184 0.23514 0.01493 0.23468 0.01476 0.23491 C -0.0085 0.21896 0.00209 0.22635 -0.01059 0.21133 C -0.0151 0.20208 -0.02239 0.19491 -0.02621 0.18474 C -0.02951 0.17641 -0.03125 0.16462 -0.03264 0.15583 C -0.02691 0.13919 -0.02118 0.12254 -0.01528 0.10589 C -0.01215 0.09803 -0.00434 0.09109 0.00035 0.08485 C 0.00538 0.07722 0.01198 0.06797 0.01667 0.05919 C 0.0224 0.04925 0.02917 0.03815 0.03646 0.02936 C 0.03976 0.02497 0.04705 0.01711 0.04705 0.01734 C 0.05122 0.00925 0.05486 0.00485 0.0599 -0.00139 C 0.0658 -0.00902 0.06077 -0.00509 0.06754 -0.01526 C 0.07743 -0.03075 0.09115 -0.04232 0.10261 -0.05526 C 0.10677 -0.06058 0.12483 -0.06428 0.1283 -0.06613 C 0.13663 -0.07099 0.14514 -0.07145 0.15365 -0.07492 C 0.16406 -0.08023 0.17066 -0.0844 0.18143 -0.08717 C 0.18872 -0.09388 0.19584 -0.09966 0.20469 -0.10174 C 0.21858 -0.11422 0.21215 -0.11191 0.2224 -0.11445 C 0.23577 -0.12601 0.25087 -0.13341 0.26528 -0.14128 C 0.26615 -0.14151 0.27709 -0.14706 0.27778 -0.14775 C 0.28663 -0.15561 0.29636 -0.16139 0.30608 -0.16648 C 0.31754 -0.17295 0.3316 -0.18544 0.34427 -0.18405 C 0.35365 -0.18636 0.3625 -0.18706 0.3717 -0.1896 C 0.379 -0.19122 0.38594 -0.19399 0.39358 -0.19376 C 0.39896 -0.19654 0.40521 -0.20023 0.41129 -0.19977 C 0.41441 -0.19954 0.42118 -0.19908 0.42084 -0.19862 C 0.43056 -0.20393 0.43906 -0.20347 0.44913 -0.20601 C 0.45834 -0.2081 0.46441 -0.21226 0.47309 -0.2111 C 0.47535 -0.21295 0.47726 -0.21549 0.47986 -0.21619 C 0.48247 -0.21665 0.48507 -0.21434 0.48785 -0.21434 C 0.48976 -0.21411 0.49132 -0.21549 0.4934 -0.21573 C 0.49514 -0.21596 0.49688 -0.21526 0.49844 -0.21503 C 0.50712 -0.22035 0.49775 -0.21596 0.51198 -0.21457 C 0.53195 -0.21249 0.50156 -0.22104 0.52413 -0.2148 C 0.53038 -0.21295 0.54271 -0.20856 0.54271 -0.20856 C 0.56615 -0.20694 0.54983 -0.20902 0.59844 -0.17758 C 0.60243 -0.17549 0.60556 -0.17064 0.60903 -0.16717 C 0.61163 -0.16463 0.61667 -0.15885 0.61667 -0.15862 C 0.62014 -0.15168 0.62205 -0.14567 0.62587 -0.13966 C 0.62483 -0.11954 0.62656 -0.14197 0.61372 -0.10035 C 0.61233 -0.09596 0.61111 -0.09087 0.61094 -0.08601 C 0.61094 -0.08393 0.61285 -0.0807 0.6125 -0.08023 E">
                                      <p:cBhvr>
                                        <p:cTn id="227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Oval 12"/>
          <p:cNvSpPr/>
          <p:nvPr/>
        </p:nvSpPr>
        <p:spPr>
          <a:xfrm>
            <a:off x="2916360" y="1557360"/>
            <a:ext cx="3816360" cy="374328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0" y="47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HELIUM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6"/>
          <p:cNvSpPr/>
          <p:nvPr/>
        </p:nvSpPr>
        <p:spPr>
          <a:xfrm>
            <a:off x="4788000" y="3213000"/>
            <a:ext cx="57600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7"/>
          <p:cNvSpPr/>
          <p:nvPr/>
        </p:nvSpPr>
        <p:spPr>
          <a:xfrm>
            <a:off x="4716360" y="2781360"/>
            <a:ext cx="576360" cy="5763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8"/>
          <p:cNvSpPr/>
          <p:nvPr/>
        </p:nvSpPr>
        <p:spPr>
          <a:xfrm>
            <a:off x="4284720" y="3429000"/>
            <a:ext cx="576360" cy="5763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5"/>
          <p:cNvSpPr/>
          <p:nvPr/>
        </p:nvSpPr>
        <p:spPr>
          <a:xfrm>
            <a:off x="4284720" y="2924280"/>
            <a:ext cx="57636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0"/>
          <p:cNvSpPr/>
          <p:nvPr/>
        </p:nvSpPr>
        <p:spPr>
          <a:xfrm>
            <a:off x="2700360" y="3500280"/>
            <a:ext cx="576360" cy="576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1"/>
          <p:cNvSpPr/>
          <p:nvPr/>
        </p:nvSpPr>
        <p:spPr>
          <a:xfrm>
            <a:off x="6372360" y="2997360"/>
            <a:ext cx="576000" cy="576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3"/>
          <p:cNvSpPr/>
          <p:nvPr/>
        </p:nvSpPr>
        <p:spPr>
          <a:xfrm>
            <a:off x="2050920" y="1989000"/>
            <a:ext cx="2376720" cy="122400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4"/>
          <p:cNvSpPr/>
          <p:nvPr/>
        </p:nvSpPr>
        <p:spPr>
          <a:xfrm>
            <a:off x="971640" y="14842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pro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5"/>
          <p:cNvSpPr/>
          <p:nvPr/>
        </p:nvSpPr>
        <p:spPr>
          <a:xfrm>
            <a:off x="971640" y="4869000"/>
            <a:ext cx="144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elect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6"/>
          <p:cNvSpPr/>
          <p:nvPr/>
        </p:nvSpPr>
        <p:spPr>
          <a:xfrm flipV="1">
            <a:off x="1979640" y="3860280"/>
            <a:ext cx="863640" cy="79236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7"/>
          <p:cNvSpPr/>
          <p:nvPr/>
        </p:nvSpPr>
        <p:spPr>
          <a:xfrm>
            <a:off x="6732720" y="4724280"/>
            <a:ext cx="165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neut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8"/>
          <p:cNvSpPr/>
          <p:nvPr/>
        </p:nvSpPr>
        <p:spPr>
          <a:xfrm flipH="1" flipV="1">
            <a:off x="4716360" y="3860280"/>
            <a:ext cx="1943280" cy="86364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9"/>
          <p:cNvSpPr/>
          <p:nvPr/>
        </p:nvSpPr>
        <p:spPr>
          <a:xfrm>
            <a:off x="7236000" y="126828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0"/>
          <p:cNvSpPr/>
          <p:nvPr/>
        </p:nvSpPr>
        <p:spPr>
          <a:xfrm flipH="1">
            <a:off x="6084360" y="1700280"/>
            <a:ext cx="1079640" cy="36036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971640" y="558972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What do these particles consist of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4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33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ATOMIC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67"/>
          <p:cNvSpPr/>
          <p:nvPr/>
        </p:nvSpPr>
        <p:spPr>
          <a:xfrm>
            <a:off x="2124000" y="1844640"/>
            <a:ext cx="17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68"/>
          <p:cNvSpPr/>
          <p:nvPr/>
        </p:nvSpPr>
        <p:spPr>
          <a:xfrm>
            <a:off x="1258920" y="198900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Parti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82"/>
          <p:cNvSpPr/>
          <p:nvPr/>
        </p:nvSpPr>
        <p:spPr>
          <a:xfrm>
            <a:off x="1258920" y="285264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be0e3"/>
                </a:solidFill>
                <a:latin typeface="Comic Sans MS"/>
              </a:rPr>
              <a:t>pro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83"/>
          <p:cNvSpPr/>
          <p:nvPr/>
        </p:nvSpPr>
        <p:spPr>
          <a:xfrm>
            <a:off x="1258920" y="371628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Comic Sans MS"/>
              </a:rPr>
              <a:t>neut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84"/>
          <p:cNvSpPr/>
          <p:nvPr/>
        </p:nvSpPr>
        <p:spPr>
          <a:xfrm>
            <a:off x="1258920" y="458136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Comic Sans MS"/>
              </a:rPr>
              <a:t>elect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85"/>
          <p:cNvSpPr/>
          <p:nvPr/>
        </p:nvSpPr>
        <p:spPr>
          <a:xfrm>
            <a:off x="3419640" y="198900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Cha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86"/>
          <p:cNvSpPr/>
          <p:nvPr/>
        </p:nvSpPr>
        <p:spPr>
          <a:xfrm>
            <a:off x="3419640" y="285264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be0e3"/>
                </a:solidFill>
                <a:latin typeface="Comic Sans MS"/>
              </a:rPr>
              <a:t>+ ve cha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87"/>
          <p:cNvSpPr/>
          <p:nvPr/>
        </p:nvSpPr>
        <p:spPr>
          <a:xfrm>
            <a:off x="3419640" y="458136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Comic Sans MS"/>
              </a:rPr>
              <a:t>-ve cha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88"/>
          <p:cNvSpPr/>
          <p:nvPr/>
        </p:nvSpPr>
        <p:spPr>
          <a:xfrm>
            <a:off x="3419640" y="371628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Comic Sans MS"/>
              </a:rPr>
              <a:t>No cha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89"/>
          <p:cNvSpPr/>
          <p:nvPr/>
        </p:nvSpPr>
        <p:spPr>
          <a:xfrm>
            <a:off x="6012000" y="28526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be0e3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90"/>
          <p:cNvSpPr/>
          <p:nvPr/>
        </p:nvSpPr>
        <p:spPr>
          <a:xfrm>
            <a:off x="6012000" y="371628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91"/>
          <p:cNvSpPr/>
          <p:nvPr/>
        </p:nvSpPr>
        <p:spPr>
          <a:xfrm>
            <a:off x="6012000" y="458136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Comic Sans MS"/>
              </a:rPr>
              <a:t>n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92"/>
          <p:cNvSpPr/>
          <p:nvPr/>
        </p:nvSpPr>
        <p:spPr>
          <a:xfrm>
            <a:off x="6012000" y="198900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93"/>
          <p:cNvSpPr/>
          <p:nvPr/>
        </p:nvSpPr>
        <p:spPr>
          <a:xfrm>
            <a:off x="1258920" y="1989000"/>
            <a:ext cx="0" cy="33116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94"/>
          <p:cNvSpPr/>
          <p:nvPr/>
        </p:nvSpPr>
        <p:spPr>
          <a:xfrm>
            <a:off x="3419640" y="1989000"/>
            <a:ext cx="0" cy="3311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95"/>
          <p:cNvSpPr/>
          <p:nvPr/>
        </p:nvSpPr>
        <p:spPr>
          <a:xfrm>
            <a:off x="6012000" y="1989000"/>
            <a:ext cx="0" cy="3311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96"/>
          <p:cNvSpPr/>
          <p:nvPr/>
        </p:nvSpPr>
        <p:spPr>
          <a:xfrm>
            <a:off x="7596360" y="1989000"/>
            <a:ext cx="0" cy="33116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97"/>
          <p:cNvSpPr/>
          <p:nvPr/>
        </p:nvSpPr>
        <p:spPr>
          <a:xfrm>
            <a:off x="1258920" y="1989000"/>
            <a:ext cx="63374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98"/>
          <p:cNvSpPr/>
          <p:nvPr/>
        </p:nvSpPr>
        <p:spPr>
          <a:xfrm>
            <a:off x="1258920" y="5300640"/>
            <a:ext cx="63374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00"/>
          <p:cNvSpPr/>
          <p:nvPr/>
        </p:nvSpPr>
        <p:spPr>
          <a:xfrm>
            <a:off x="1258920" y="2781360"/>
            <a:ext cx="6337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01"/>
          <p:cNvSpPr/>
          <p:nvPr/>
        </p:nvSpPr>
        <p:spPr>
          <a:xfrm>
            <a:off x="1258920" y="3645000"/>
            <a:ext cx="6337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02"/>
          <p:cNvSpPr/>
          <p:nvPr/>
        </p:nvSpPr>
        <p:spPr>
          <a:xfrm>
            <a:off x="1258920" y="4437000"/>
            <a:ext cx="6337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1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6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ATOMIC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4067280" y="2060640"/>
            <a:ext cx="43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e number of protons in an a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1"/>
          <p:cNvSpPr/>
          <p:nvPr/>
        </p:nvSpPr>
        <p:spPr>
          <a:xfrm>
            <a:off x="4211640" y="4076640"/>
            <a:ext cx="338472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e number of protons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neutrons in an a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2"/>
          <p:cNvSpPr/>
          <p:nvPr/>
        </p:nvSpPr>
        <p:spPr>
          <a:xfrm>
            <a:off x="468360" y="1413000"/>
            <a:ext cx="3600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0" spc="-1" strike="noStrike">
                <a:solidFill>
                  <a:srgbClr val="ffffff"/>
                </a:solidFill>
                <a:latin typeface="Tahoma"/>
              </a:rPr>
              <a:t>He</a:t>
            </a: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4"/>
          <p:cNvSpPr/>
          <p:nvPr/>
        </p:nvSpPr>
        <p:spPr>
          <a:xfrm>
            <a:off x="3348000" y="148428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3348000" y="350028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6"/>
          <p:cNvSpPr/>
          <p:nvPr/>
        </p:nvSpPr>
        <p:spPr>
          <a:xfrm>
            <a:off x="4067280" y="3645000"/>
            <a:ext cx="180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3300"/>
                </a:solidFill>
                <a:uFillTx/>
                <a:latin typeface="Comic Sans MS"/>
              </a:rPr>
              <a:t>Atomic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3924360" y="1628640"/>
            <a:ext cx="25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3300"/>
                </a:solidFill>
                <a:uFillTx/>
                <a:latin typeface="Comic Sans MS"/>
              </a:rPr>
              <a:t>Atomic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8"/>
          <p:cNvSpPr/>
          <p:nvPr/>
        </p:nvSpPr>
        <p:spPr>
          <a:xfrm>
            <a:off x="0" y="5157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number of electrons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=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number of prot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4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ATOMIC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971640" y="1341360"/>
            <a:ext cx="7488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Electrons are arranged in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Energy Levels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or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Shells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around the nucleus of an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755640" y="3141720"/>
            <a:ext cx="7559640" cy="38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first shell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 maximum of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second shell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 maximum of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8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ird shell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 maximum of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8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7"/>
          <p:cNvSpPr/>
          <p:nvPr/>
        </p:nvSpPr>
        <p:spPr>
          <a:xfrm>
            <a:off x="3348000" y="3429000"/>
            <a:ext cx="936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8"/>
          <p:cNvSpPr/>
          <p:nvPr/>
        </p:nvSpPr>
        <p:spPr>
          <a:xfrm>
            <a:off x="3348000" y="4221000"/>
            <a:ext cx="936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9"/>
          <p:cNvSpPr/>
          <p:nvPr/>
        </p:nvSpPr>
        <p:spPr>
          <a:xfrm>
            <a:off x="3348000" y="5157720"/>
            <a:ext cx="936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4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ATOMIC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539640" y="1413000"/>
            <a:ext cx="806472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There are two ways to represent the atomic structure of an element or compou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0" y="3141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1.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Electronic Config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0" y="4869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2.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Dot &amp; Cross 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4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ELECTRONIC CONFIG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468360" y="1268280"/>
            <a:ext cx="8388360" cy="19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With electronic configuration elements are represented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numerically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by the number of electrons in their shells and number of shells.  For exampl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0"/>
          <p:cNvSpPr/>
          <p:nvPr/>
        </p:nvSpPr>
        <p:spPr>
          <a:xfrm>
            <a:off x="6732720" y="4581360"/>
            <a:ext cx="108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Comic Sans MS"/>
              </a:rPr>
              <a:t>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611280" y="364500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7740720" y="4437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4"/>
          <p:cNvSpPr/>
          <p:nvPr/>
        </p:nvSpPr>
        <p:spPr>
          <a:xfrm>
            <a:off x="7667640" y="544500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8"/>
          <p:cNvSpPr/>
          <p:nvPr/>
        </p:nvSpPr>
        <p:spPr>
          <a:xfrm>
            <a:off x="755640" y="4508640"/>
            <a:ext cx="2303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ff66"/>
                </a:solidFill>
                <a:latin typeface="Comic Sans MS"/>
              </a:rPr>
              <a:t>2 in 1</a:t>
            </a:r>
            <a:r>
              <a:rPr b="1" lang="en-GB" sz="2400" spc="-1" strike="noStrike" baseline="30000">
                <a:solidFill>
                  <a:srgbClr val="ccff66"/>
                </a:solidFill>
                <a:latin typeface="Comic Sans MS"/>
              </a:rPr>
              <a:t>st</a:t>
            </a:r>
            <a:r>
              <a:rPr b="1" lang="en-GB" sz="2400" spc="-1" strike="noStrike">
                <a:solidFill>
                  <a:srgbClr val="ccff66"/>
                </a:solidFill>
                <a:latin typeface="Comic Sans MS"/>
              </a:rPr>
              <a:t> shell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5 in 2</a:t>
            </a:r>
            <a:r>
              <a:rPr b="1" lang="en-GB" sz="2400" spc="-1" strike="noStrike" baseline="30000">
                <a:solidFill>
                  <a:srgbClr val="ff3300"/>
                </a:solidFill>
                <a:latin typeface="Comic Sans MS"/>
              </a:rPr>
              <a:t>nd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 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9"/>
          <p:cNvSpPr/>
          <p:nvPr/>
        </p:nvSpPr>
        <p:spPr>
          <a:xfrm>
            <a:off x="3276720" y="37162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configuration =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2 ,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0"/>
          <p:cNvSpPr/>
          <p:nvPr/>
        </p:nvSpPr>
        <p:spPr>
          <a:xfrm>
            <a:off x="2700360" y="3933720"/>
            <a:ext cx="43164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1"/>
          <p:cNvSpPr/>
          <p:nvPr/>
        </p:nvSpPr>
        <p:spPr>
          <a:xfrm>
            <a:off x="1835280" y="5373720"/>
            <a:ext cx="432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3059280" y="472428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ff66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+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5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 = 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23"/>
          <p:cNvSpPr/>
          <p:nvPr/>
        </p:nvSpPr>
        <p:spPr>
          <a:xfrm>
            <a:off x="4788000" y="4653000"/>
            <a:ext cx="576000" cy="720720"/>
          </a:xfrm>
          <a:prstGeom prst="ellipse">
            <a:avLst/>
          </a:prstGeom>
          <a:noFill/>
          <a:ln w="572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24"/>
          <p:cNvSpPr/>
          <p:nvPr/>
        </p:nvSpPr>
        <p:spPr>
          <a:xfrm>
            <a:off x="7667640" y="4292640"/>
            <a:ext cx="576360" cy="720720"/>
          </a:xfrm>
          <a:prstGeom prst="ellipse">
            <a:avLst/>
          </a:prstGeom>
          <a:noFill/>
          <a:ln w="572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5"/>
          <p:cNvSpPr/>
          <p:nvPr/>
        </p:nvSpPr>
        <p:spPr>
          <a:xfrm flipV="1">
            <a:off x="5508720" y="4508280"/>
            <a:ext cx="1871640" cy="215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4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ELECTRONIC CONFIG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539640" y="1484280"/>
            <a:ext cx="80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Write the electronic configuration for the following elemen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21"/>
          <p:cNvSpPr/>
          <p:nvPr/>
        </p:nvSpPr>
        <p:spPr>
          <a:xfrm>
            <a:off x="1042920" y="2852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22"/>
          <p:cNvSpPr/>
          <p:nvPr/>
        </p:nvSpPr>
        <p:spPr>
          <a:xfrm>
            <a:off x="6300720" y="2781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23"/>
          <p:cNvSpPr/>
          <p:nvPr/>
        </p:nvSpPr>
        <p:spPr>
          <a:xfrm>
            <a:off x="1042920" y="46530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24"/>
          <p:cNvSpPr/>
          <p:nvPr/>
        </p:nvSpPr>
        <p:spPr>
          <a:xfrm>
            <a:off x="3708360" y="46530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25"/>
          <p:cNvSpPr/>
          <p:nvPr/>
        </p:nvSpPr>
        <p:spPr>
          <a:xfrm>
            <a:off x="3635280" y="2781360"/>
            <a:ext cx="9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26"/>
          <p:cNvSpPr/>
          <p:nvPr/>
        </p:nvSpPr>
        <p:spPr>
          <a:xfrm>
            <a:off x="1476360" y="263700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27"/>
          <p:cNvSpPr/>
          <p:nvPr/>
        </p:nvSpPr>
        <p:spPr>
          <a:xfrm>
            <a:off x="1476360" y="335772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28"/>
          <p:cNvSpPr/>
          <p:nvPr/>
        </p:nvSpPr>
        <p:spPr>
          <a:xfrm>
            <a:off x="4284720" y="263700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29"/>
          <p:cNvSpPr/>
          <p:nvPr/>
        </p:nvSpPr>
        <p:spPr>
          <a:xfrm>
            <a:off x="4284720" y="321300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30"/>
          <p:cNvSpPr/>
          <p:nvPr/>
        </p:nvSpPr>
        <p:spPr>
          <a:xfrm>
            <a:off x="6659640" y="263700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31"/>
          <p:cNvSpPr/>
          <p:nvPr/>
        </p:nvSpPr>
        <p:spPr>
          <a:xfrm>
            <a:off x="1476360" y="450864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32"/>
          <p:cNvSpPr/>
          <p:nvPr/>
        </p:nvSpPr>
        <p:spPr>
          <a:xfrm>
            <a:off x="6588000" y="314172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33"/>
          <p:cNvSpPr/>
          <p:nvPr/>
        </p:nvSpPr>
        <p:spPr>
          <a:xfrm>
            <a:off x="1476360" y="501336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34"/>
          <p:cNvSpPr/>
          <p:nvPr/>
        </p:nvSpPr>
        <p:spPr>
          <a:xfrm>
            <a:off x="4140360" y="4508640"/>
            <a:ext cx="50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35"/>
          <p:cNvSpPr/>
          <p:nvPr/>
        </p:nvSpPr>
        <p:spPr>
          <a:xfrm>
            <a:off x="4140360" y="5013360"/>
            <a:ext cx="50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36"/>
          <p:cNvSpPr/>
          <p:nvPr/>
        </p:nvSpPr>
        <p:spPr>
          <a:xfrm>
            <a:off x="6300720" y="46530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37"/>
          <p:cNvSpPr/>
          <p:nvPr/>
        </p:nvSpPr>
        <p:spPr>
          <a:xfrm>
            <a:off x="6659640" y="494172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38"/>
          <p:cNvSpPr/>
          <p:nvPr/>
        </p:nvSpPr>
        <p:spPr>
          <a:xfrm>
            <a:off x="6659640" y="450864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39"/>
          <p:cNvSpPr/>
          <p:nvPr/>
        </p:nvSpPr>
        <p:spPr>
          <a:xfrm>
            <a:off x="611280" y="29242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ff66"/>
                </a:solidFill>
                <a:latin typeface="Comic Sans MS"/>
              </a:rPr>
              <a:t>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40"/>
          <p:cNvSpPr/>
          <p:nvPr/>
        </p:nvSpPr>
        <p:spPr>
          <a:xfrm>
            <a:off x="3132000" y="292428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ff66"/>
                </a:solidFill>
                <a:latin typeface="Comic Sans MS"/>
              </a:rPr>
              <a:t>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41"/>
          <p:cNvSpPr/>
          <p:nvPr/>
        </p:nvSpPr>
        <p:spPr>
          <a:xfrm>
            <a:off x="5796000" y="29242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ff66"/>
                </a:solidFill>
                <a:latin typeface="Comic Sans MS"/>
              </a:rPr>
              <a:t>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42"/>
          <p:cNvSpPr/>
          <p:nvPr/>
        </p:nvSpPr>
        <p:spPr>
          <a:xfrm>
            <a:off x="611280" y="47242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ff66"/>
                </a:solidFill>
                <a:latin typeface="Comic Sans MS"/>
              </a:rPr>
              <a:t>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43"/>
          <p:cNvSpPr/>
          <p:nvPr/>
        </p:nvSpPr>
        <p:spPr>
          <a:xfrm>
            <a:off x="3132000" y="472428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ff66"/>
                </a:solidFill>
                <a:latin typeface="Comic Sans MS"/>
              </a:rPr>
              <a:t>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44"/>
          <p:cNvSpPr/>
          <p:nvPr/>
        </p:nvSpPr>
        <p:spPr>
          <a:xfrm>
            <a:off x="5796000" y="47242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ff66"/>
                </a:solidFill>
                <a:latin typeface="Comic Sans MS"/>
              </a:rPr>
              <a:t>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45"/>
          <p:cNvSpPr/>
          <p:nvPr/>
        </p:nvSpPr>
        <p:spPr>
          <a:xfrm>
            <a:off x="826920" y="371628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2,8,8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46"/>
          <p:cNvSpPr/>
          <p:nvPr/>
        </p:nvSpPr>
        <p:spPr>
          <a:xfrm>
            <a:off x="3708360" y="371628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2,8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47"/>
          <p:cNvSpPr/>
          <p:nvPr/>
        </p:nvSpPr>
        <p:spPr>
          <a:xfrm>
            <a:off x="971640" y="5373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2,8,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48"/>
          <p:cNvSpPr/>
          <p:nvPr/>
        </p:nvSpPr>
        <p:spPr>
          <a:xfrm>
            <a:off x="3780000" y="5373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2,8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49"/>
          <p:cNvSpPr/>
          <p:nvPr/>
        </p:nvSpPr>
        <p:spPr>
          <a:xfrm>
            <a:off x="6516720" y="537372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2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50"/>
          <p:cNvSpPr/>
          <p:nvPr/>
        </p:nvSpPr>
        <p:spPr>
          <a:xfrm>
            <a:off x="6443640" y="371628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2,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4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DOT &amp; CROSS 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539640" y="1197000"/>
            <a:ext cx="7993080" cy="19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With Dot &amp; Cross diagrams elements and compounds are represented by Dots or Crosses to show electrons, and circles to show the shells. For exampl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611280" y="421956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7"/>
          <p:cNvSpPr/>
          <p:nvPr/>
        </p:nvSpPr>
        <p:spPr>
          <a:xfrm>
            <a:off x="2771640" y="4579920"/>
            <a:ext cx="4320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8"/>
          <p:cNvSpPr/>
          <p:nvPr/>
        </p:nvSpPr>
        <p:spPr>
          <a:xfrm>
            <a:off x="4788000" y="4363920"/>
            <a:ext cx="576000" cy="5763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9"/>
          <p:cNvSpPr/>
          <p:nvPr/>
        </p:nvSpPr>
        <p:spPr>
          <a:xfrm>
            <a:off x="4284720" y="3860640"/>
            <a:ext cx="1584360" cy="1584360"/>
          </a:xfrm>
          <a:prstGeom prst="ellipse">
            <a:avLst/>
          </a:prstGeom>
          <a:noFill/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10"/>
          <p:cNvSpPr/>
          <p:nvPr/>
        </p:nvSpPr>
        <p:spPr>
          <a:xfrm>
            <a:off x="3780000" y="3427560"/>
            <a:ext cx="2592360" cy="2520720"/>
          </a:xfrm>
          <a:prstGeom prst="ellipse">
            <a:avLst/>
          </a:prstGeom>
          <a:noFill/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1"/>
          <p:cNvSpPr/>
          <p:nvPr/>
        </p:nvSpPr>
        <p:spPr>
          <a:xfrm>
            <a:off x="5653080" y="43639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ff66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2"/>
          <p:cNvSpPr/>
          <p:nvPr/>
        </p:nvSpPr>
        <p:spPr>
          <a:xfrm>
            <a:off x="4068720" y="43639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ff66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3"/>
          <p:cNvSpPr/>
          <p:nvPr/>
        </p:nvSpPr>
        <p:spPr>
          <a:xfrm>
            <a:off x="6156360" y="4365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ff66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4"/>
          <p:cNvSpPr/>
          <p:nvPr/>
        </p:nvSpPr>
        <p:spPr>
          <a:xfrm>
            <a:off x="4788000" y="3213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ff66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5"/>
          <p:cNvSpPr/>
          <p:nvPr/>
        </p:nvSpPr>
        <p:spPr>
          <a:xfrm>
            <a:off x="5076720" y="5732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ff66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6"/>
          <p:cNvSpPr/>
          <p:nvPr/>
        </p:nvSpPr>
        <p:spPr>
          <a:xfrm>
            <a:off x="4788000" y="5732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ff66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7"/>
          <p:cNvSpPr/>
          <p:nvPr/>
        </p:nvSpPr>
        <p:spPr>
          <a:xfrm>
            <a:off x="3564000" y="43639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ff66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9"/>
          <p:cNvSpPr/>
          <p:nvPr/>
        </p:nvSpPr>
        <p:spPr>
          <a:xfrm>
            <a:off x="6948360" y="4292640"/>
            <a:ext cx="108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Comic Sans MS"/>
              </a:rPr>
              <a:t>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0"/>
          <p:cNvSpPr/>
          <p:nvPr/>
        </p:nvSpPr>
        <p:spPr>
          <a:xfrm>
            <a:off x="7885080" y="4292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1"/>
          <p:cNvSpPr/>
          <p:nvPr/>
        </p:nvSpPr>
        <p:spPr>
          <a:xfrm>
            <a:off x="7812000" y="5445000"/>
            <a:ext cx="5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4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DOT &amp; CROSS 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539640" y="1484280"/>
            <a:ext cx="80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Draw the Dot &amp; Cross diagrams for the following elemen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0"/>
          <p:cNvSpPr/>
          <p:nvPr/>
        </p:nvSpPr>
        <p:spPr>
          <a:xfrm>
            <a:off x="1403280" y="2565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1"/>
          <p:cNvSpPr/>
          <p:nvPr/>
        </p:nvSpPr>
        <p:spPr>
          <a:xfrm>
            <a:off x="4211640" y="2565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8"/>
          <p:cNvSpPr/>
          <p:nvPr/>
        </p:nvSpPr>
        <p:spPr>
          <a:xfrm>
            <a:off x="1763640" y="234936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9"/>
          <p:cNvSpPr/>
          <p:nvPr/>
        </p:nvSpPr>
        <p:spPr>
          <a:xfrm>
            <a:off x="4716360" y="234936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0"/>
          <p:cNvSpPr/>
          <p:nvPr/>
        </p:nvSpPr>
        <p:spPr>
          <a:xfrm>
            <a:off x="1692360" y="292572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21"/>
          <p:cNvSpPr/>
          <p:nvPr/>
        </p:nvSpPr>
        <p:spPr>
          <a:xfrm>
            <a:off x="4643280" y="285264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7"/>
          <p:cNvSpPr/>
          <p:nvPr/>
        </p:nvSpPr>
        <p:spPr>
          <a:xfrm>
            <a:off x="971640" y="263700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ff66"/>
                </a:solidFill>
                <a:latin typeface="Comic Sans MS"/>
              </a:rPr>
              <a:t>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8"/>
          <p:cNvSpPr/>
          <p:nvPr/>
        </p:nvSpPr>
        <p:spPr>
          <a:xfrm>
            <a:off x="3564000" y="263700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ff66"/>
                </a:solidFill>
                <a:latin typeface="Comic Sans MS"/>
              </a:rPr>
              <a:t>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37"/>
          <p:cNvSpPr/>
          <p:nvPr/>
        </p:nvSpPr>
        <p:spPr>
          <a:xfrm>
            <a:off x="1763640" y="4292640"/>
            <a:ext cx="574920" cy="576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38"/>
          <p:cNvSpPr/>
          <p:nvPr/>
        </p:nvSpPr>
        <p:spPr>
          <a:xfrm>
            <a:off x="1547640" y="4076640"/>
            <a:ext cx="1008360" cy="1081080"/>
          </a:xfrm>
          <a:prstGeom prst="ellipse">
            <a:avLst/>
          </a:prstGeom>
          <a:noFill/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39"/>
          <p:cNvSpPr/>
          <p:nvPr/>
        </p:nvSpPr>
        <p:spPr>
          <a:xfrm>
            <a:off x="971640" y="3502080"/>
            <a:ext cx="2158920" cy="2232000"/>
          </a:xfrm>
          <a:prstGeom prst="ellipse">
            <a:avLst/>
          </a:prstGeom>
          <a:noFill/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40"/>
          <p:cNvSpPr/>
          <p:nvPr/>
        </p:nvSpPr>
        <p:spPr>
          <a:xfrm>
            <a:off x="1403280" y="3357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1"/>
          <p:cNvSpPr/>
          <p:nvPr/>
        </p:nvSpPr>
        <p:spPr>
          <a:xfrm>
            <a:off x="1836720" y="3860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42"/>
          <p:cNvSpPr/>
          <p:nvPr/>
        </p:nvSpPr>
        <p:spPr>
          <a:xfrm>
            <a:off x="2484360" y="3500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43"/>
          <p:cNvSpPr/>
          <p:nvPr/>
        </p:nvSpPr>
        <p:spPr>
          <a:xfrm>
            <a:off x="1836720" y="4941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44"/>
          <p:cNvSpPr/>
          <p:nvPr/>
        </p:nvSpPr>
        <p:spPr>
          <a:xfrm>
            <a:off x="2916360" y="4292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187280" y="5229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46"/>
          <p:cNvSpPr/>
          <p:nvPr/>
        </p:nvSpPr>
        <p:spPr>
          <a:xfrm>
            <a:off x="755640" y="4292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47"/>
          <p:cNvSpPr/>
          <p:nvPr/>
        </p:nvSpPr>
        <p:spPr>
          <a:xfrm>
            <a:off x="2484360" y="5300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61"/>
          <p:cNvSpPr/>
          <p:nvPr/>
        </p:nvSpPr>
        <p:spPr>
          <a:xfrm>
            <a:off x="6227640" y="3862440"/>
            <a:ext cx="574920" cy="576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Comic Sans MS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62"/>
          <p:cNvSpPr/>
          <p:nvPr/>
        </p:nvSpPr>
        <p:spPr>
          <a:xfrm>
            <a:off x="6012000" y="3645000"/>
            <a:ext cx="1008000" cy="1081080"/>
          </a:xfrm>
          <a:prstGeom prst="ellipse">
            <a:avLst/>
          </a:prstGeom>
          <a:noFill/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63"/>
          <p:cNvSpPr/>
          <p:nvPr/>
        </p:nvSpPr>
        <p:spPr>
          <a:xfrm>
            <a:off x="5435640" y="3070080"/>
            <a:ext cx="2233440" cy="2232000"/>
          </a:xfrm>
          <a:prstGeom prst="ellipse">
            <a:avLst/>
          </a:prstGeom>
          <a:noFill/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64"/>
          <p:cNvSpPr/>
          <p:nvPr/>
        </p:nvSpPr>
        <p:spPr>
          <a:xfrm>
            <a:off x="6300720" y="2852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65"/>
          <p:cNvSpPr/>
          <p:nvPr/>
        </p:nvSpPr>
        <p:spPr>
          <a:xfrm>
            <a:off x="6804000" y="3933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66"/>
          <p:cNvSpPr/>
          <p:nvPr/>
        </p:nvSpPr>
        <p:spPr>
          <a:xfrm>
            <a:off x="7164360" y="3213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67"/>
          <p:cNvSpPr/>
          <p:nvPr/>
        </p:nvSpPr>
        <p:spPr>
          <a:xfrm>
            <a:off x="5796000" y="4005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68"/>
          <p:cNvSpPr/>
          <p:nvPr/>
        </p:nvSpPr>
        <p:spPr>
          <a:xfrm>
            <a:off x="8244000" y="4005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69"/>
          <p:cNvSpPr/>
          <p:nvPr/>
        </p:nvSpPr>
        <p:spPr>
          <a:xfrm>
            <a:off x="5076720" y="5157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70"/>
          <p:cNvSpPr/>
          <p:nvPr/>
        </p:nvSpPr>
        <p:spPr>
          <a:xfrm>
            <a:off x="5580000" y="4724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71"/>
          <p:cNvSpPr/>
          <p:nvPr/>
        </p:nvSpPr>
        <p:spPr>
          <a:xfrm>
            <a:off x="6372360" y="50864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72"/>
          <p:cNvSpPr/>
          <p:nvPr/>
        </p:nvSpPr>
        <p:spPr>
          <a:xfrm>
            <a:off x="5219640" y="4005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73"/>
          <p:cNvSpPr/>
          <p:nvPr/>
        </p:nvSpPr>
        <p:spPr>
          <a:xfrm>
            <a:off x="5580000" y="3213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74"/>
          <p:cNvSpPr/>
          <p:nvPr/>
        </p:nvSpPr>
        <p:spPr>
          <a:xfrm>
            <a:off x="4716360" y="2349360"/>
            <a:ext cx="3745080" cy="3600720"/>
          </a:xfrm>
          <a:prstGeom prst="ellipse">
            <a:avLst/>
          </a:prstGeom>
          <a:noFill/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75"/>
          <p:cNvSpPr/>
          <p:nvPr/>
        </p:nvSpPr>
        <p:spPr>
          <a:xfrm>
            <a:off x="7451640" y="3933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76"/>
          <p:cNvSpPr/>
          <p:nvPr/>
        </p:nvSpPr>
        <p:spPr>
          <a:xfrm>
            <a:off x="7164360" y="4653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77"/>
          <p:cNvSpPr/>
          <p:nvPr/>
        </p:nvSpPr>
        <p:spPr>
          <a:xfrm>
            <a:off x="4572000" y="3933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78"/>
          <p:cNvSpPr/>
          <p:nvPr/>
        </p:nvSpPr>
        <p:spPr>
          <a:xfrm>
            <a:off x="7380360" y="249228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79"/>
          <p:cNvSpPr/>
          <p:nvPr/>
        </p:nvSpPr>
        <p:spPr>
          <a:xfrm>
            <a:off x="6300720" y="2133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80"/>
          <p:cNvSpPr/>
          <p:nvPr/>
        </p:nvSpPr>
        <p:spPr>
          <a:xfrm>
            <a:off x="5148360" y="2637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81"/>
          <p:cNvSpPr/>
          <p:nvPr/>
        </p:nvSpPr>
        <p:spPr>
          <a:xfrm>
            <a:off x="6372360" y="5661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82"/>
          <p:cNvSpPr/>
          <p:nvPr/>
        </p:nvSpPr>
        <p:spPr>
          <a:xfrm>
            <a:off x="7740720" y="50864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0" y="47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HISTORY OF THE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826920" y="1557360"/>
            <a:ext cx="12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460 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2124000" y="148428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Democritus develops the idea of a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Democritus"/>
          <p:cNvPicPr/>
          <p:nvPr/>
        </p:nvPicPr>
        <p:blipFill>
          <a:blip r:embed="rId1"/>
          <a:stretch/>
        </p:blipFill>
        <p:spPr>
          <a:xfrm>
            <a:off x="684360" y="2276640"/>
            <a:ext cx="1888920" cy="23032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2916360" y="2565360"/>
            <a:ext cx="5616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he pounded up materials in his pestle and mortar until he had reduced them to smaller and smaller particles which he cal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2987640" y="4724280"/>
            <a:ext cx="3672000" cy="14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Comic Sans MS"/>
              </a:rPr>
              <a:t>ATOMA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i="1" lang="en-GB" sz="2000" spc="-1" strike="noStrike">
                <a:solidFill>
                  <a:srgbClr val="ffffff"/>
                </a:solidFill>
                <a:latin typeface="Comic Sans MS"/>
              </a:rPr>
              <a:t>greek for indivisible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4"/>
          <p:cNvSpPr/>
          <p:nvPr/>
        </p:nvSpPr>
        <p:spPr>
          <a:xfrm>
            <a:off x="0" y="189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539640" y="981000"/>
            <a:ext cx="8280360" cy="49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Atomic Number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of an atom </a:t>
            </a:r>
            <a:r>
              <a:rPr b="0" lang="en-GB" sz="2400" spc="-1" strike="noStrike">
                <a:solidFill>
                  <a:srgbClr val="ff3300"/>
                </a:solidFill>
                <a:latin typeface="Comic Sans MS"/>
              </a:rPr>
              <a:t>=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number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protons in the nucle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Atomic Mass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of an atom </a:t>
            </a:r>
            <a:r>
              <a:rPr b="0" lang="en-GB" sz="2400" spc="-1" strike="noStrike">
                <a:solidFill>
                  <a:srgbClr val="ff3300"/>
                </a:solidFill>
                <a:latin typeface="Comic Sans MS"/>
              </a:rPr>
              <a:t>=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number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Protons + Neutrons in the nucle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 number of Protons </a:t>
            </a:r>
            <a:r>
              <a:rPr b="0" lang="en-GB" sz="2400" spc="-1" strike="noStrike">
                <a:solidFill>
                  <a:srgbClr val="ff3300"/>
                </a:solidFill>
                <a:latin typeface="Comic Sans MS"/>
              </a:rPr>
              <a:t>=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Number of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Electrons orbit the nucleus in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shells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Each shell can only carry a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set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number of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3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6" dur="5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1" dur="500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4" dur="500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9" dur="500"/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4" dur="500"/>
                                        <p:tgtEl>
                                          <p:spTgt spid="3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9" dur="500"/>
                                        <p:tgtEl>
                                          <p:spTgt spid="3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0" descr="john Dalton"/>
          <p:cNvPicPr/>
          <p:nvPr/>
        </p:nvPicPr>
        <p:blipFill>
          <a:blip r:embed="rId1"/>
          <a:stretch/>
        </p:blipFill>
        <p:spPr>
          <a:xfrm>
            <a:off x="684360" y="2421000"/>
            <a:ext cx="1942920" cy="23050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4"/>
          <p:cNvSpPr/>
          <p:nvPr/>
        </p:nvSpPr>
        <p:spPr>
          <a:xfrm>
            <a:off x="0" y="47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HISTORY OF THE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826920" y="1557360"/>
            <a:ext cx="12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18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2124000" y="148428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John Dal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2916360" y="2565360"/>
            <a:ext cx="5616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suggested that all matter was made up of tiny spheres that were able to bounce around with perfect elasticity and called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2987640" y="4724280"/>
            <a:ext cx="36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Comic Sans MS"/>
              </a:rPr>
              <a:t>ATOMS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8" descr="joseph john thompson"/>
          <p:cNvPicPr/>
          <p:nvPr/>
        </p:nvPicPr>
        <p:blipFill>
          <a:blip r:embed="rId1"/>
          <a:stretch/>
        </p:blipFill>
        <p:spPr>
          <a:xfrm>
            <a:off x="684360" y="2421000"/>
            <a:ext cx="1939680" cy="23032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0" y="47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HISTORY OF THE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826920" y="1557360"/>
            <a:ext cx="12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18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2124000" y="148428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Joseph John Thomp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2916360" y="2565360"/>
            <a:ext cx="561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found that atoms could sometimes eject a far smaller negative particle which he called 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2987640" y="4724280"/>
            <a:ext cx="36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Comic Sans MS"/>
              </a:rPr>
              <a:t>ELECTRON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5"/>
          <p:cNvSpPr/>
          <p:nvPr/>
        </p:nvSpPr>
        <p:spPr>
          <a:xfrm>
            <a:off x="0" y="47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HISTORY OF THE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826920" y="1628640"/>
            <a:ext cx="799308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ompson develops the idea that an atom was made up of electrons scattered unevenly within an elastic sphere surrounded by a soup of positive charge to balance the electron's cha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7"/>
          <p:cNvSpPr/>
          <p:nvPr/>
        </p:nvSpPr>
        <p:spPr>
          <a:xfrm>
            <a:off x="1619280" y="3429000"/>
            <a:ext cx="2592360" cy="2448000"/>
          </a:xfrm>
          <a:prstGeom prst="ellipse">
            <a:avLst/>
          </a:prstGeom>
          <a:solidFill>
            <a:srgbClr val="990099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26"/>
          <p:cNvSpPr/>
          <p:nvPr/>
        </p:nvSpPr>
        <p:spPr>
          <a:xfrm>
            <a:off x="2700360" y="5445000"/>
            <a:ext cx="142920" cy="14472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2"/>
          <p:cNvSpPr/>
          <p:nvPr/>
        </p:nvSpPr>
        <p:spPr>
          <a:xfrm>
            <a:off x="826920" y="1268280"/>
            <a:ext cx="12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19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5"/>
          <p:cNvSpPr/>
          <p:nvPr/>
        </p:nvSpPr>
        <p:spPr>
          <a:xfrm>
            <a:off x="4356000" y="3357720"/>
            <a:ext cx="432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like plums surrounded by pudd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7"/>
          <p:cNvSpPr/>
          <p:nvPr/>
        </p:nvSpPr>
        <p:spPr>
          <a:xfrm>
            <a:off x="4500720" y="4365720"/>
            <a:ext cx="352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PLUM PUD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38"/>
          <p:cNvSpPr/>
          <p:nvPr/>
        </p:nvSpPr>
        <p:spPr>
          <a:xfrm>
            <a:off x="2843280" y="3716280"/>
            <a:ext cx="14292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39"/>
          <p:cNvSpPr/>
          <p:nvPr/>
        </p:nvSpPr>
        <p:spPr>
          <a:xfrm>
            <a:off x="1979640" y="4292640"/>
            <a:ext cx="14292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40"/>
          <p:cNvSpPr/>
          <p:nvPr/>
        </p:nvSpPr>
        <p:spPr>
          <a:xfrm>
            <a:off x="3492360" y="4437000"/>
            <a:ext cx="14292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41"/>
          <p:cNvSpPr/>
          <p:nvPr/>
        </p:nvSpPr>
        <p:spPr>
          <a:xfrm>
            <a:off x="2124000" y="4941720"/>
            <a:ext cx="142920" cy="14472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42"/>
          <p:cNvSpPr/>
          <p:nvPr/>
        </p:nvSpPr>
        <p:spPr>
          <a:xfrm>
            <a:off x="2627280" y="4292640"/>
            <a:ext cx="14292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43"/>
          <p:cNvSpPr/>
          <p:nvPr/>
        </p:nvSpPr>
        <p:spPr>
          <a:xfrm>
            <a:off x="3132000" y="5084640"/>
            <a:ext cx="142920" cy="14472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44"/>
          <p:cNvSpPr/>
          <p:nvPr/>
        </p:nvSpPr>
        <p:spPr>
          <a:xfrm>
            <a:off x="2556000" y="4724280"/>
            <a:ext cx="142920" cy="14472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45"/>
          <p:cNvSpPr/>
          <p:nvPr/>
        </p:nvSpPr>
        <p:spPr>
          <a:xfrm>
            <a:off x="3203640" y="3860640"/>
            <a:ext cx="142920" cy="14472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46"/>
          <p:cNvSpPr/>
          <p:nvPr/>
        </p:nvSpPr>
        <p:spPr>
          <a:xfrm>
            <a:off x="3635280" y="5013360"/>
            <a:ext cx="14292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47"/>
          <p:cNvSpPr/>
          <p:nvPr/>
        </p:nvSpPr>
        <p:spPr>
          <a:xfrm>
            <a:off x="2268360" y="4005360"/>
            <a:ext cx="14292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48"/>
          <p:cNvSpPr/>
          <p:nvPr/>
        </p:nvSpPr>
        <p:spPr>
          <a:xfrm>
            <a:off x="3059280" y="4508640"/>
            <a:ext cx="14256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49"/>
          <p:cNvSpPr/>
          <p:nvPr/>
        </p:nvSpPr>
        <p:spPr>
          <a:xfrm>
            <a:off x="3564000" y="4005360"/>
            <a:ext cx="14292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50"/>
          <p:cNvSpPr/>
          <p:nvPr/>
        </p:nvSpPr>
        <p:spPr>
          <a:xfrm>
            <a:off x="2340000" y="5373720"/>
            <a:ext cx="14292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51"/>
          <p:cNvSpPr/>
          <p:nvPr/>
        </p:nvSpPr>
        <p:spPr>
          <a:xfrm>
            <a:off x="2843280" y="5084640"/>
            <a:ext cx="142920" cy="14472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52"/>
          <p:cNvSpPr/>
          <p:nvPr/>
        </p:nvSpPr>
        <p:spPr>
          <a:xfrm>
            <a:off x="2916360" y="4149720"/>
            <a:ext cx="14292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53"/>
          <p:cNvSpPr/>
          <p:nvPr/>
        </p:nvSpPr>
        <p:spPr>
          <a:xfrm>
            <a:off x="1763640" y="3500280"/>
            <a:ext cx="2232000" cy="2232360"/>
          </a:xfrm>
          <a:prstGeom prst="plus">
            <a:avLst>
              <a:gd name="adj" fmla="val 43111"/>
            </a:avLst>
          </a:prstGeom>
          <a:solidFill>
            <a:srgbClr val="ff7c80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54"/>
          <p:cNvSpPr/>
          <p:nvPr/>
        </p:nvSpPr>
        <p:spPr>
          <a:xfrm>
            <a:off x="2556000" y="3860640"/>
            <a:ext cx="142920" cy="14472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55"/>
          <p:cNvSpPr/>
          <p:nvPr/>
        </p:nvSpPr>
        <p:spPr>
          <a:xfrm>
            <a:off x="3276720" y="4724280"/>
            <a:ext cx="142920" cy="14472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56"/>
          <p:cNvSpPr/>
          <p:nvPr/>
        </p:nvSpPr>
        <p:spPr>
          <a:xfrm>
            <a:off x="3348000" y="5300640"/>
            <a:ext cx="14292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57"/>
          <p:cNvSpPr/>
          <p:nvPr/>
        </p:nvSpPr>
        <p:spPr>
          <a:xfrm>
            <a:off x="2268360" y="4581360"/>
            <a:ext cx="142920" cy="14472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58"/>
          <p:cNvSpPr/>
          <p:nvPr/>
        </p:nvSpPr>
        <p:spPr>
          <a:xfrm>
            <a:off x="2556000" y="5013360"/>
            <a:ext cx="14292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0" y="47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HISTORY OF THE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826920" y="1557360"/>
            <a:ext cx="12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19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2124000" y="148428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Ernest Rutherf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8" descr="Ernest rutherford"/>
          <p:cNvPicPr/>
          <p:nvPr/>
        </p:nvPicPr>
        <p:blipFill>
          <a:blip r:embed="rId1"/>
          <a:stretch/>
        </p:blipFill>
        <p:spPr>
          <a:xfrm>
            <a:off x="755640" y="2565360"/>
            <a:ext cx="1935000" cy="27367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9"/>
          <p:cNvSpPr/>
          <p:nvPr/>
        </p:nvSpPr>
        <p:spPr>
          <a:xfrm>
            <a:off x="3059280" y="2349360"/>
            <a:ext cx="568800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oversaw Geiger and Marsden carrying out his famous experi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ey fired Helium nuclei at a piece of 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gold foil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which was only a few atoms thi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ey found that although most of them passed through. About 1 in 10,000 h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0" y="47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HISTORY OF THE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rutherford exp"/>
          <p:cNvPicPr/>
          <p:nvPr/>
        </p:nvPicPr>
        <p:blipFill>
          <a:blip r:embed="rId1"/>
          <a:stretch/>
        </p:blipFill>
        <p:spPr>
          <a:xfrm>
            <a:off x="2987640" y="1413000"/>
            <a:ext cx="3168720" cy="3076560"/>
          </a:xfrm>
          <a:prstGeom prst="rect">
            <a:avLst/>
          </a:prstGeom>
          <a:ln w="0">
            <a:noFill/>
          </a:ln>
        </p:spPr>
      </p:pic>
      <p:sp>
        <p:nvSpPr>
          <p:cNvPr id="106" name="Line 6"/>
          <p:cNvSpPr/>
          <p:nvPr/>
        </p:nvSpPr>
        <p:spPr>
          <a:xfrm flipH="1">
            <a:off x="4858920" y="1916280"/>
            <a:ext cx="2303640" cy="5029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6732720" y="1484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mic Sans MS"/>
              </a:rPr>
              <a:t>gold fo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8"/>
          <p:cNvSpPr/>
          <p:nvPr/>
        </p:nvSpPr>
        <p:spPr>
          <a:xfrm flipH="1" flipV="1">
            <a:off x="4572000" y="2565000"/>
            <a:ext cx="287280" cy="144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9"/>
          <p:cNvSpPr/>
          <p:nvPr/>
        </p:nvSpPr>
        <p:spPr>
          <a:xfrm>
            <a:off x="5796000" y="3357720"/>
            <a:ext cx="1150920" cy="57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6588000" y="4005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mic Sans MS"/>
              </a:rPr>
              <a:t>helium nucl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1"/>
          <p:cNvSpPr/>
          <p:nvPr/>
        </p:nvSpPr>
        <p:spPr>
          <a:xfrm flipH="1" flipV="1">
            <a:off x="4211640" y="2349360"/>
            <a:ext cx="28728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2"/>
          <p:cNvSpPr/>
          <p:nvPr/>
        </p:nvSpPr>
        <p:spPr>
          <a:xfrm flipH="1">
            <a:off x="3995280" y="2565360"/>
            <a:ext cx="505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3"/>
          <p:cNvSpPr/>
          <p:nvPr/>
        </p:nvSpPr>
        <p:spPr>
          <a:xfrm flipH="1" flipV="1">
            <a:off x="4284720" y="2060280"/>
            <a:ext cx="28728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4"/>
          <p:cNvSpPr/>
          <p:nvPr/>
        </p:nvSpPr>
        <p:spPr>
          <a:xfrm flipV="1">
            <a:off x="4572000" y="2205000"/>
            <a:ext cx="28728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5"/>
          <p:cNvSpPr/>
          <p:nvPr/>
        </p:nvSpPr>
        <p:spPr>
          <a:xfrm>
            <a:off x="4643280" y="2421000"/>
            <a:ext cx="36036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6"/>
          <p:cNvSpPr/>
          <p:nvPr/>
        </p:nvSpPr>
        <p:spPr>
          <a:xfrm flipV="1" rot="10800000">
            <a:off x="826560" y="4722120"/>
            <a:ext cx="756468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ey found that while most of the helium nuclei passed through the foil, a small number were deflected and, to their surprise, some helium nuclei bounced straight ba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7"/>
          <p:cNvSpPr/>
          <p:nvPr/>
        </p:nvSpPr>
        <p:spPr>
          <a:xfrm>
            <a:off x="3492360" y="17002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helium nucl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xit" presetID="3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3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3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0" y="47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HISTORY OF THE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755640" y="1824840"/>
            <a:ext cx="7559640" cy="39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Rutherford’s new evidence allowed him to propose a more detailed model with a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central nucleus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He suggested that th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positive charge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was all in a central nucleus.  With this holding the electrons in place by electrical att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However, this was not the end of the story.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0" y="47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HISTORY OF THE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826920" y="1557360"/>
            <a:ext cx="12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19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2124000" y="148428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Niels Bo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niels bohr"/>
          <p:cNvPicPr/>
          <p:nvPr/>
        </p:nvPicPr>
        <p:blipFill>
          <a:blip r:embed="rId1"/>
          <a:stretch/>
        </p:blipFill>
        <p:spPr>
          <a:xfrm>
            <a:off x="900000" y="2637000"/>
            <a:ext cx="2055960" cy="287964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8"/>
          <p:cNvSpPr/>
          <p:nvPr/>
        </p:nvSpPr>
        <p:spPr>
          <a:xfrm>
            <a:off x="3276720" y="2348640"/>
            <a:ext cx="532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studied under Rutherford at the Victoria University in Manchest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1"/>
          <p:cNvSpPr/>
          <p:nvPr/>
        </p:nvSpPr>
        <p:spPr>
          <a:xfrm>
            <a:off x="3276720" y="3429000"/>
            <a:ext cx="5256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Bohr refined Rutherford's idea by adding that the electrons were in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  <a:ea typeface="Arial"/>
              </a:rPr>
              <a:t>orbits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. Rather like planets orbiting the sun. With each orbit only able to contain a set number of electr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9T10:27:47Z</dcterms:created>
  <dc:creator>S.MORRIS</dc:creator>
  <dc:description/>
  <dc:language>en-US</dc:language>
  <cp:lastModifiedBy>RomaK</cp:lastModifiedBy>
  <dcterms:modified xsi:type="dcterms:W3CDTF">2015-09-01T16:15:17Z</dcterms:modified>
  <cp:revision>27</cp:revision>
  <dc:subject/>
  <dc:title>Atomic structure</dc:title>
</cp:coreProperties>
</file>